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C9CE-164A-401D-AA1A-7A55806F1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909-F47C-4B05-9502-70687FD8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F53-C6A7-4D24-9510-D44748CE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4ED-6FDB-4E6F-AF81-C04397E6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FF9B-995B-4D02-B3B1-0DC9B010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1F7-C91F-41EA-B2C3-D5F5426D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2F2-758C-4426-BBAC-FB431762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B1A-411F-4CD7-BC50-D67CDC0D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8C9-44A3-467E-BD61-E6DE17F5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38C-9515-455F-879E-73202DCA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06D-7572-4729-B08B-85CCE8FB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652-52F4-4BF4-AF2F-B02B4D6D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5D0-E2CB-4E95-A355-7DD2A273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D93A-6602-4DBC-8E88-80D6BE44E7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6913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638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NA6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95280" y="4149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5445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635280" y="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tein Synthesis takes place in 2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95280" y="472428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of the DNA molecule (the gene) unz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 RNA copy is produced, by matching complementary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1_4c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1_4d"/>
          <p:cNvPicPr/>
          <p:nvPr/>
        </p:nvPicPr>
        <p:blipFill>
          <a:blip r:embed="rId2"/>
          <a:stretch/>
        </p:blipFill>
        <p:spPr>
          <a:xfrm>
            <a:off x="4606920" y="1341360"/>
            <a:ext cx="4537080" cy="3144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4724280"/>
            <a:ext cx="82087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mRNA copy is made with the help of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RNA polymerase.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ary R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7"/>
          <p:cNvSpPr/>
          <p:nvPr/>
        </p:nvSpPr>
        <p:spPr>
          <a:xfrm>
            <a:off x="6156360" y="270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156360" y="3500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15636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084720" y="537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00px-MRNA-interaction"/>
          <p:cNvPicPr/>
          <p:nvPr/>
        </p:nvPicPr>
        <p:blipFill>
          <a:blip r:embed="rId1"/>
          <a:stretch/>
        </p:blipFill>
        <p:spPr>
          <a:xfrm>
            <a:off x="1979640" y="1459080"/>
            <a:ext cx="5346720" cy="5398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5219280" y="1916280"/>
            <a:ext cx="1297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835280" y="400536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4360" y="378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516720" y="1628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58800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5796000" y="501336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38036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labelled_animal_cell_for_cell_worksheet_with_ribosomes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557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835280" y="3500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940360" y="234936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1692360" y="5373720"/>
            <a:ext cx="115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5508720" y="5084280"/>
            <a:ext cx="1295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859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 flipV="1">
            <a:off x="4788000" y="436572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12589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25892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508720" y="609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80400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88508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716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nimal_cell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57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NA_Cycle"/>
          <p:cNvPicPr/>
          <p:nvPr/>
        </p:nvPicPr>
        <p:blipFill>
          <a:blip r:embed="rId1"/>
          <a:stretch/>
        </p:blipFill>
        <p:spPr>
          <a:xfrm>
            <a:off x="1908000" y="1844640"/>
            <a:ext cx="53816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na"/>
          <p:cNvPicPr/>
          <p:nvPr/>
        </p:nvPicPr>
        <p:blipFill>
          <a:blip r:embed="rId1"/>
          <a:stretch/>
        </p:blipFill>
        <p:spPr>
          <a:xfrm>
            <a:off x="971640" y="1197000"/>
            <a:ext cx="6732360" cy="5522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4000"/>
            <a:ext cx="907416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NA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691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24000" y="5300640"/>
            <a:ext cx="8496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made up of 4 different sub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otid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ich can be arranged in an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enine to Thym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tosine to Guan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-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NA9"/>
          <p:cNvPicPr/>
          <p:nvPr/>
        </p:nvPicPr>
        <p:blipFill>
          <a:blip r:embed="rId1"/>
          <a:stretch/>
        </p:blipFill>
        <p:spPr>
          <a:xfrm>
            <a:off x="179280" y="82440"/>
            <a:ext cx="8964720" cy="6761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that act like 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8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order) of bases tells the cell what proteins to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21337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dictate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mino acids, which determines the shape of a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400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 if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 the DNA is wrong it may result in a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ckle cell anaemia is caused by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hange in the DNA bas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7596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NA7"/>
          <p:cNvPicPr/>
          <p:nvPr/>
        </p:nvPicPr>
        <p:blipFill>
          <a:blip r:embed="rId1"/>
          <a:stretch/>
        </p:blipFill>
        <p:spPr>
          <a:xfrm>
            <a:off x="2509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32360" y="692280"/>
            <a:ext cx="324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NA10"/>
          <p:cNvPicPr/>
          <p:nvPr/>
        </p:nvPicPr>
        <p:blipFill>
          <a:blip r:embed="rId1"/>
          <a:stretch/>
        </p:blipFill>
        <p:spPr>
          <a:xfrm>
            <a:off x="250920" y="-380880"/>
            <a:ext cx="8893080" cy="667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35:41Z</dcterms:created>
  <dc:creator>Holloway</dc:creator>
  <dc:description/>
  <dc:language>en-US</dc:language>
  <cp:lastModifiedBy>LEGION2</cp:lastModifiedBy>
  <dcterms:modified xsi:type="dcterms:W3CDTF">2016-01-11T13:53:25Z</dcterms:modified>
  <cp:revision>22</cp:revision>
  <dc:subject/>
  <dc:title>The Human Genome and Disease</dc:title>
</cp:coreProperties>
</file>